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7F7A-4B70-4280-AD9F-4F43CD7A0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4DA9-7BCD-4E84-B6AD-22E46EE15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180F-15D2-49BD-8B05-0B92BDA18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8AD4-F7F9-4F73-A388-E9E1B3076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9A05D-E84B-4507-B23B-5A9C3ED7C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FEF55-9865-403F-B044-03935BE821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7D9CE-C17A-4996-8BD0-714C706533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D08E-BF8F-4540-9F25-8469A83B06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CCEC1-C5D2-432F-BAD6-05267BD47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74C6-FDCF-4A26-B105-27600C2EC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69464-DA08-49E7-9A96-62C666B9B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58ED-6B70-48C7-AAA3-EE3395CE9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65BA-C8EE-403B-9012-5A6A7F440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B1D8C-C728-4A91-84FA-2E6A05E07B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63A2-4D99-4721-8246-9F32FFE052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A85ED-5061-4131-AA5D-E4BA08B37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DF2C-820A-4CA4-8090-66C1E6477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2DE2-0A8D-40E7-917D-CD90131D5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7640-A22C-46C7-A7C4-999C76B77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85F0-6E3A-491F-AC11-4122F838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82F8-7575-41B4-842F-0F34589C0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13F6-08D5-44DC-946A-455EAAD3D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8D5D-268A-4545-B44C-65049C08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FC06-E332-41C6-BC28-25EAFBE74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925E5FE-18BB-4B16-A248-CADD7E0426E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5C6C0FC-746F-429D-943C-A781D099DD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EF78FB0-052F-43B3-AE06-3E0C1E2BF46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FE14EF1-771D-4C40-B2AC-F3EE9F6D23D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05-13T11:23:25Z</dcterms:modified>
  <cp:revision>347</cp:revision>
  <dc:subject/>
  <dc:title>Exploratory Data Analysis</dc:title>
</cp:coreProperties>
</file>